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F584A-E3ED-433C-9200-CFC6C3D5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A821D-8D7A-4EFA-9975-131BFF72B2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437EA-EF5E-43B5-A484-69A266B25C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7D685-663E-475A-B609-A1917830F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F2F8F-9C60-42D5-863F-BD4CD4EA7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13323-1791-420B-8424-10F0BFD75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0367C-E5F3-4ECD-A04E-F18622A5B8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0B46D-2755-412D-A9B9-4D71EE8D06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1763A-1DB0-498F-8D58-305E0D2993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EAB05-0368-49C5-BBA9-C12ED4C817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72A19-A723-480D-A4BF-5D21CB7DCE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4B519-2694-4E6A-9B83-21F0E45612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B833D-804E-46D7-A5CD-E28DBAB106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CEC72-07B8-4F06-BBA4-5C96446979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78360-DA78-4C3A-A109-62383FB41B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CCD07-EA0E-485D-96A8-C76CAE77E2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A2412-528B-4056-A365-A91F50AF3A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1F2BA-ADC4-4DD6-98E7-2F7FBAF785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D5B-7353-48F5-9278-9A900ADF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DED-B6C5-4524-8C31-C8537F93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99B-DF39-4BC5-AD2F-1B39699E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3A2-B8C7-4AED-8A79-C85DCBD2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F0F-D034-4709-BC8D-4E8427AF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FA9-25D8-4811-9203-53885F20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EB9-B8DE-43B5-9A14-AEC21D0C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CC0-942E-45C9-8365-A40DB600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4D5-5F19-48C4-AA27-526026F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A56-D027-426A-847A-92E9E47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25F-A8C6-41CD-92FF-A8EC193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955-0B5D-46C1-9D3E-B92ECE6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67C4D-5DCF-43AA-ADA3-9FAE8C968D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OFILAKTIČKE MERE U PREVENCIJI BOLJENJA USTA I ZUBA</a:t>
            </a:r>
            <a:endParaRPr b="0" lang="en-US" sz="4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4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KOMPOZITI SA FLUOROM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96640" y="189036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Većina kompozitnih zalivača ne sadrži aktivne komponente i njihova preventivna uloga se zasniva na fizičkoj opturaciji fisura i izolaciji od oralne sredi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KOMPOMERI KAO ZALIVAČ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96640" y="189036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ompomeri, odnosno polikiselinama modifikovane kompozitne smole, spadaju u grupu hibridnih stomatoloških materijala u kojima se estetska svojstva tradicionalnih kompozitnih sistema kombinuju sa osobinama oslobađanja fluorida i adhezivnošu glas-jonomernih materijala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GJC KAO ZALIVAČ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96640" y="189036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Glas-jonomerni materijali mogu biti alternativa kompozitnim materijalima, naročito u onim situacijama kada je postavljanje kompozitnih zalivača kontraindikovano ili otežano, odnosno kod pacijenata sa kojima nije moguće uspostaviti punu saradnj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HEMIOPROFILAKSA ORALNIH OBOLJENJ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96640" y="189036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Hemijska supstanca koja ima mogućnost da ometa metaboličku aktivnost ili adheziju bakterija u dentalnim plakama može se smatrati </a:t>
            </a: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HEMIOPROFILAKTIČKIM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 agenso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BIOLOŠKA AKTIVNOST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96640" y="213480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Dobro hemioprofilaktičko sredstvo ima sposobnost da se zadrži u ustima duži vremenski period nakon aplikacije a potom se lagano oslobađa duži vremenski period i u terapijskim doza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Hemijski agensi se za strukture usne duplje mogu vezivati jonskim, kovalentnim i Van der Walsovim silam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bzirom da najveću površinu u ustima čini mukoza, ona je ujedno i najveći rezervoar za ove hemijske supstance. Brzina njihovog otpuštanja i dužina njihovog zadržavanja u ustima zavisiće od njihove koncentracije u pljuvačk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MEHANIZAM DEJSTV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11120" y="2043000"/>
            <a:ext cx="8839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Osnovni mehanizmi hemioprofilaktičkih sredstava su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inhibicija kolonizacije bakter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inhibicija rasta i metabolizma bakter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onemogudavanje sazrevanja pla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modifikacija metabolizma i ekologije pla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NOSAČ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96640" y="189036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Kao nosači hemioprofilaktičkih sredstava mogu poslužiti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8f8f8"/>
                </a:solidFill>
                <a:latin typeface="Trebuchet MS"/>
              </a:rPr>
              <a:t>rastvori za ispiranje ust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8f8f8"/>
                </a:solidFill>
                <a:latin typeface="Trebuchet MS"/>
              </a:rPr>
              <a:t>paste za zu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8f8f8"/>
                </a:solidFill>
                <a:latin typeface="Trebuchet MS"/>
              </a:rPr>
              <a:t>žele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8f8f8"/>
                </a:solidFill>
                <a:latin typeface="Trebuchet MS"/>
              </a:rPr>
              <a:t>sredstva za lagano otpuštan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8f8f8"/>
                </a:solidFill>
                <a:latin typeface="Trebuchet MS"/>
              </a:rPr>
              <a:t>žvakaće gu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PODEL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96600" y="167760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ATJONSK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ANJONSK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EJONSK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ENZIM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UVOD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Sve mere koje stomatolozi aktivno preduzimaju u ustima pacijenata u cilju prevencije oboljenj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700" spc="-1" strike="noStrike">
                <a:solidFill>
                  <a:srgbClr val="f8f8f8"/>
                </a:solidFill>
                <a:latin typeface="Trebuchet MS"/>
              </a:rPr>
              <a:t>Zalivanje fisur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700" spc="-1" strike="noStrike">
                <a:solidFill>
                  <a:srgbClr val="f8f8f8"/>
                </a:solidFill>
                <a:latin typeface="Trebuchet MS"/>
              </a:rPr>
              <a:t>Hemioprofilaktička sredstv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700" spc="-1" strike="noStrike">
                <a:solidFill>
                  <a:srgbClr val="f8f8f8"/>
                </a:solidFill>
                <a:latin typeface="Trebuchet MS"/>
              </a:rPr>
              <a:t>Uklanjanje tvrdih i mekih naslaga sa zub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700" spc="-1" strike="noStrike">
                <a:solidFill>
                  <a:srgbClr val="f8f8f8"/>
                </a:solidFill>
                <a:latin typeface="Trebuchet MS"/>
              </a:rPr>
              <a:t>Lokalna aplikacija koncentrovanih fluorid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0800" y="632880"/>
            <a:ext cx="10287000" cy="11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ISTORIJ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96640" y="2439720"/>
            <a:ext cx="10629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600" spc="-1" strike="noStrike">
                <a:solidFill>
                  <a:srgbClr val="f8f8f8"/>
                </a:solidFill>
                <a:latin typeface="Trebuchet MS"/>
              </a:rPr>
              <a:t>PROFILAKTIČKA ODONTOTOMIJ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600" spc="-1" strike="noStrike">
                <a:solidFill>
                  <a:srgbClr val="f8f8f8"/>
                </a:solidFill>
                <a:latin typeface="Trebuchet MS"/>
              </a:rPr>
              <a:t>PROFILAKTIČKO PLOMBIRANJ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600" spc="-1" strike="noStrike">
                <a:solidFill>
                  <a:srgbClr val="f8f8f8"/>
                </a:solidFill>
                <a:latin typeface="Trebuchet MS"/>
              </a:rPr>
              <a:t>OTVARANJE FISUR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406240" y="59544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ZALIVANJE FISUR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96640" y="189036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imena ovih metoda datira još od dvadesetih godina 20-og veka a materijali koji su se koristili bili su raznovrsni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cink-fosfatni c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bakarni c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akrilatne smo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cijanoakril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poliuretanske smo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4200" spc="-1" strike="noStrike">
                <a:solidFill>
                  <a:srgbClr val="ffffff"/>
                </a:solidFill>
                <a:latin typeface="Trebuchet MS"/>
              </a:rPr>
              <a:t>PRVI STALNI MOLAR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50000" y="2134800"/>
            <a:ext cx="7333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ajznačajniji zub za razvoj i funkciju organa za žvakanj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ajveća krunica koja obiluje morfološkim detaljima i razgranatim sistemom fisur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natno kraće trajanje razvitka u odnosu na druge stalne zube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Izložen je uticaju mnogih negativnih faktora u vreme razvitk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4200" spc="-1" strike="noStrike">
                <a:solidFill>
                  <a:srgbClr val="ffffff"/>
                </a:solidFill>
                <a:latin typeface="Trebuchet MS"/>
              </a:rPr>
              <a:t>DODATNE DIJAGNOSTIČKE METOD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806800" y="2592000"/>
            <a:ext cx="64767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FOT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IFOT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Ispitivanje električne provodljivost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Rendgen dijagnostik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Laser fluorescen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4200" spc="-1" strike="noStrike">
                <a:solidFill>
                  <a:srgbClr val="ffffff"/>
                </a:solidFill>
                <a:latin typeface="Trebuchet MS"/>
              </a:rPr>
              <a:t>INDIKACIJE ZA ZALIVANJE FISUR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96640" y="2287440"/>
            <a:ext cx="1000116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 planu terapije koji se pravi individualno za svakog pacijenta odluka o zalivanju fisura sledi iza opštih karijes-preventivnih mera </a:t>
            </a: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(higijenske mere, korekcija ishrane, primena fluorida)</a:t>
            </a: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 i često se planira već za drugu posetu kod dece kod koje postoji indikacij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alivanje fisura ujedno predstavlja i dobru pripremu za sledeće posete i dalju terapiju jer spada u bezbolne i minimalno neprijatne intervencij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USPEH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6640" y="190620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Na jačinu spoja utiču brojni faktori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obezbeđivanje suvog radnog polja (koferdam ili vataroln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način na koji se sprovodi toaleta površine zub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gustina sredstva za nagrizanje gleđi (tečno ili gel stanj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koncentracije sredstva za nagrizanje gleđi (35-37% ortofosforna kiselin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vreme delovanja sredstva za nagrizanje gleđi (20-30 sekundi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za dublji prodor smole u nagriženu gleđ poželjno je ostaviti zalivač na površinu zuba 10-ak sekundi pa tek onda uraditi polimerizaci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KOMPOZITI KAO ZALIVAČ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806800" y="2271600"/>
            <a:ext cx="601956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većana poroznost površine gleđi osigurava značajno povećanje mikromehaničke površine za niskoviskoznu smolu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ariostatični efekat kompozitni zalivači pre svega ostvaruju putem fizičke opturacije jamica i fisur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17:38Z</dcterms:modified>
  <cp:revision>627</cp:revision>
  <dc:subject/>
  <dc:title>RTG U DEČJOJ STOMATOLOGIJI</dc:title>
</cp:coreProperties>
</file>